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06D3-0913-48AB-BABD-0AB81786E28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A412-9E68-4925-9A88-3E756F771A9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0AE9-8581-4F59-96BA-FDA3E62458A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7D5E-5E94-44A8-8F6E-72ADBEE465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A3CF-DD84-4B50-8D64-FAD887B8F9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5436-F25F-4145-85AF-E81AA13523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AC42-0648-47AE-9699-EBFDF95B22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B368-FA54-4953-B877-6F3CB3680C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A371-EE8F-42E8-8FF9-DE6856F1BD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755A-DC33-4E6B-889B-0EDFCD7EF5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F03B-AE27-4438-8A81-C0A52FBA26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8980-8087-4051-A1C5-56BAE45F2D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8E53-E8EF-4344-9F7F-3AC57C3EB1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E071-9ECE-4160-849C-0D91B3C3E7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19D1-9191-4835-BEFE-E21F6AC009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AEED-338B-4881-899F-21106BB9FD8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DBA7-9A9E-42B5-BD18-A084FD4F5AA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65E2-23DB-42EB-907C-5E68F8FFD88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F189-8324-4A44-B886-CECDF54A8BC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3549-3093-4259-A0F2-A38E4D3AA70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B8EC-829A-47CE-8D6B-27FC6EAC0B0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E253-ACB9-4363-AAF3-FB0633D4AC4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9561-8269-4051-98E5-5CDD5E97169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7A0B-F465-446B-8FCE-F1F8FA784B9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48D4-27B6-4FD7-8F99-6549E962CA0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6484-5AB5-4357-B530-F0EF440A173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0" name="Rectangle 63"/>
          <p:cNvSpPr/>
          <p:nvPr/>
        </p:nvSpPr>
        <p:spPr>
          <a:xfrm>
            <a:off x="647640" y="61977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29F4-9A12-4933-AD0C-C270500981A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8B4D-9A28-4D94-9E6C-6D89988C28C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B3BF-15EA-408F-9FD8-DBB852B0661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DDC3-53F8-46B3-9BE8-D13755AA19F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645F-9E24-4AEB-B70A-B33FA87C796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8FD4-C134-45C0-8F8C-58F28B00D48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1B5B-66E8-4F23-B9E1-5BD13427EEC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7D4F-2FA8-4849-995F-BB1F5168E87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8961-4E91-48CF-ACB2-A0CAF506B99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DEF6-4764-4460-915F-782C00ECF02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5714-A61A-4C19-BA2C-BDD012EAB99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3364-CCCB-45E4-8A42-0A3DC85F3EA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2916-78A3-41E7-B8C6-CD2390F2228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#SekretaerinnenVonStuder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SusanneWint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A7D3-2AD4-403D-B09D-93D3990574A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F14E-0857-4EA6-8955-A91E317D0B6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08C-29BE-4483-A86A-AC63EE4A6FC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about="#AngehoerigeAG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B6B8-79F4-4070-8961-FE76D39D9D2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38F6-C8FE-4FB3-BE39-023267C2FDE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8AF4-1EFA-4296-BB0F-249E09B7883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9AF7-399A-4CDA-B176-578E47965F2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CC77-7A16-4193-BB67-85EF3C2595A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0D87-B061-4772-A1C9-4AE8925CC60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2035-520F-47CA-89EB-1C6ED62D706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1E9D-C5B4-4299-844A-741DA982F38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1A68-7132-4D02-81E1-AE74B1A15FF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D1A4-851C-4BB6-9619-06BE6D7D1B2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530F-7709-4D5D-A602-8913EB01762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#RudiStuder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A367-95CE-4E3A-8CF5-F215A00B66B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6721-804D-4642-A873-E6ED4EF4C55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76A9-CBBF-4DFC-B8B5-3EDC6BCDCEE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E238-7EBD-454D-89F3-0B3810F81B5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FD21-1408-40D4-86B9-4C2ECFEF6C0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967F-8508-4DDE-8D68-9DC661287F1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2FB8-AEA0-490D-904F-6A7351BC420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4F28-7F8F-4B52-9846-0114641FEAB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D5E8-BECF-4660-868C-1BDD652AE23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7639-E3EA-4B3D-A6CB-1C4C4BC0BDD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8802-CF4A-4660-A470-FAA026AD02B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140C-DDDF-46E7-9276-9092E738CCA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1449-A43E-44E0-B9B4-AA1C4E2048D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64C0-2268-4446-8F8A-85720B2A21F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4518-213A-4AAA-BCC0-99E1A6E8A6A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07F8-B291-48B1-9DBF-F6198B599C1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313E-A248-40E9-9B2C-18FCEBC9643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8436-C80E-4012-9223-33E69092D57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21FF-F1CF-46DF-91BC-65074A31A86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86EB-8BD4-4B8D-8A88-007C534EF5B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89E3-19F0-4625-8C60-B06CDE59E1C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E4D5-FEDC-4D6E-8246-A430FD8CD1E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2658-AEBA-4461-BA08-EDDFFCA2CD4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6B7C-3304-4B79-95E0-E58FB644FB5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0653-5CA7-46D8-960B-FB8DF05FF2C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F230-927D-42C2-8BEE-7F9692A771D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90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1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3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4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6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7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8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9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400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1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2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3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4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5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6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7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8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6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7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8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9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1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2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3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4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3"/>
          <p:cNvSpPr/>
          <p:nvPr/>
        </p:nvSpPr>
        <p:spPr>
          <a:xfrm>
            <a:off x="8048160" y="3338640"/>
            <a:ext cx="150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4"/>
          <p:cNvSpPr/>
          <p:nvPr/>
        </p:nvSpPr>
        <p:spPr>
          <a:xfrm>
            <a:off x="7958520" y="4076640"/>
            <a:ext cx="2347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Rectangle 45"/>
          <p:cNvSpPr/>
          <p:nvPr/>
        </p:nvSpPr>
        <p:spPr>
          <a:xfrm>
            <a:off x="6718680" y="2247840"/>
            <a:ext cx="224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5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6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7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8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9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1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2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3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4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5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6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8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9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0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1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2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3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4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5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6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7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9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60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2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4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5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6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7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2"/>
          <p:cNvSpPr/>
          <p:nvPr/>
        </p:nvSpPr>
        <p:spPr>
          <a:xfrm>
            <a:off x="1972080" y="7340760"/>
            <a:ext cx="3201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D106-F807-4FAD-B67B-1F6581D1E75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2:35:37Z</dcterms:created>
  <dc:creator/>
  <dc:description/>
  <cp:keywords/>
  <dc:language>en-US</dc:language>
  <cp:lastModifiedBy>Sebastian Rudolph</cp:lastModifiedBy>
  <dcterms:modified xsi:type="dcterms:W3CDTF">2008-12-02T22:47:49Z</dcterms:modified>
  <cp:revision>2</cp:revision>
  <dc:subject/>
  <dc:title>Grundlagen Semantic Web</dc:title>
</cp:coreProperties>
</file>